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3.wmf" ContentType="image/x-wmf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42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48E-96F4-44BE-B252-99137290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E32-C0FA-4721-A05A-8910866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B65-343A-4B7D-92DF-9E4E68CF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3D3-465D-4521-A54D-DA9DEF25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FEA-BD5D-46F9-B559-44106F51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A899-D5B7-4FBC-AAE6-5D54204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FB27-CC3D-4C93-99DC-E3A4C92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AFA-CB22-41B2-8204-F7534C0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499-144E-4253-9323-56A47D4C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9A1-4454-4F62-AFC0-0ADF5051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314-1909-4350-8DD9-57D7D6F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3DA-B7AA-4CBB-9314-3D70D098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C2FF-F205-4EE2-9842-4E9D17A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ACA-1603-4323-BBF2-94227E6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EC23-E016-4C61-BEF4-84CC2D3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B2E9-1057-4D01-80F7-DBBA03C7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E21-D7BE-4FBC-BB30-0FCD8965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67A0-DFA8-4459-8A5D-789DBD71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171B-2652-4074-8735-75856C2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111B-A6D3-4EDE-B1E3-4E5762D7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BD31-027F-4EA0-8018-FD41932F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28BA-3AFF-43BF-ADDB-EE21787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348-B425-4F75-ACD7-ECCC2B09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28C4-8707-4963-BEA3-C8BAA07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B6A5-DE8F-4861-930B-EFF6E6C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125D-D41B-42AA-B4AC-F54203E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28A8-73AF-4AFC-AD40-7F9C4D4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7329-6405-491C-8EE7-F5985BA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9A0E-AFAB-4D49-AE45-4EB6A152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B25F-9A9D-46A6-8301-3DCC4C87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63D2-597C-499D-875C-2F93F9BD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3757-A165-43D3-BD2F-39BA8704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53CF-6D4B-48F1-9766-35B963AE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5A8-CDA3-483F-BE84-E79EA407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CFA9-3A60-4ECB-BB32-59EC2F95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3C89-2F4D-4090-BD49-57F823E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4E76-F8BE-4A07-A992-196DBA3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C4A5-B110-420B-8A84-B1E9662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6914-0253-4119-8FEB-AE73A12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6CA14-1D67-48DF-8E37-12493C1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13C0-200D-476E-906B-3C9C6C3E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B05F-57D0-4452-A028-CE8E6E65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FEA5-0329-41D4-9035-3FCED28E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A131-CA7D-4614-9572-8F2E2DC4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F94-933A-4B97-9011-B2FC10D7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C18B-4C6D-4B81-88A1-F840CC8B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38B2-94BB-4031-B43F-5EF0A6B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244DD-3B11-40E8-AC9D-9C38152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4389-CF48-46BB-BA53-E42A675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ECC6-A183-4EAD-ABAE-7DC49C7D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B40A-18EF-440B-9437-0FB585C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3346-1844-46EF-ACF5-7A2C953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09D5-799C-4890-B9A8-2C7E3B3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5DEF-4E22-4911-8A1A-5AEB7D8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8E90-629B-4BB8-AAB2-4F1D2A40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073-A143-40FF-B690-489D4F5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86FF-1A6A-47D5-BDCE-BEB581F1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160-A175-4466-BA82-4736F22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ACE-37EB-4736-AC03-83054F9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98B-ECE4-421D-9AA5-EBDD448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DA8B-598D-449B-87B0-53198D3F9825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739B-55B2-449E-A982-204621970542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21AA-33C8-489D-8724-7E0E35358694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08F-09BA-4CA6-A67F-7925131C2294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BCB-C9E3-4AD1-9F49-107EA0ADEED7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ch@rmin\AppData\Local\Microsoft\Windows\Temporary Internet Files\Content.IE5\A2RJIVVW\MP900433365[1].jpg"/>
          <p:cNvPicPr/>
          <p:nvPr/>
        </p:nvPicPr>
        <p:blipFill>
          <a:blip r:embed="rId1"/>
          <a:stretch/>
        </p:blipFill>
        <p:spPr>
          <a:xfrm>
            <a:off x="1089000" y="366840"/>
            <a:ext cx="6610320" cy="4076640"/>
          </a:xfrm>
          <a:prstGeom prst="rect">
            <a:avLst/>
          </a:prstGeom>
          <a:ln w="0">
            <a:noFill/>
          </a:ln>
        </p:spPr>
      </p:pic>
      <p:pic>
        <p:nvPicPr>
          <p:cNvPr id="391" name="3 Título" descr=""/>
          <p:cNvPicPr/>
          <p:nvPr/>
        </p:nvPicPr>
        <p:blipFill>
          <a:blip r:embed="rId2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079640" y="44686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1 CuadroTexto"/>
          <p:cNvSpPr/>
          <p:nvPr/>
        </p:nvSpPr>
        <p:spPr>
          <a:xfrm>
            <a:off x="971640" y="5397480"/>
            <a:ext cx="70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w Cen MT"/>
              </a:rPr>
              <a:t>Zona 072                   Asesores académicos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reli Jaziel Corona Ni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na Patricia Pérez Obreg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. Humberto Cardiel Juárez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1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6487"/>
                <a:lnTo>
                  <a:pt x="4046" y="21481"/>
                </a:lnTo>
                <a:lnTo>
                  <a:pt x="0" y="16200"/>
                </a:lnTo>
                <a:lnTo>
                  <a:pt x="4046" y="10681"/>
                </a:lnTo>
                <a:lnTo>
                  <a:pt x="4046" y="13381"/>
                </a:lnTo>
                <a:arcTo wR="21600" hR="6750" stAng="3516487" swAng="-305050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5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6927"/>
                <a:lnTo>
                  <a:pt x="4791" y="21432"/>
                </a:lnTo>
                <a:lnTo>
                  <a:pt x="0" y="16200"/>
                </a:lnTo>
                <a:lnTo>
                  <a:pt x="4791" y="10632"/>
                </a:lnTo>
                <a:lnTo>
                  <a:pt x="4791" y="13332"/>
                </a:lnTo>
                <a:arcTo wR="21600" hR="6750" stAng="3236927" swAng="-277094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7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30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5004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2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4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3080924"/>
                <a:lnTo>
                  <a:pt x="5400" y="21379"/>
                </a:lnTo>
                <a:lnTo>
                  <a:pt x="0" y="16498"/>
                </a:lnTo>
                <a:lnTo>
                  <a:pt x="5400" y="11175"/>
                </a:lnTo>
                <a:lnTo>
                  <a:pt x="5400" y="13726"/>
                </a:lnTo>
                <a:arcTo wR="21600" hR="6974" stAng="3080924" swAng="-2647002"/>
                <a:lnTo>
                  <a:pt x="20103" y="9525"/>
                </a:lnTo>
                <a:arcTo wR="21600" hR="6974" stAng="-433922" swAng="-4966078"/>
                <a:close/>
              </a:path>
              <a:path fill="darkenLess"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-433922"/>
                <a:lnTo>
                  <a:pt x="20103" y="9525"/>
                </a:lnTo>
                <a:arcTo wR="21600" hR="6974" stAng="-433922" swAng="-4966078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6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9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37300"/>
                <a:lnTo>
                  <a:pt x="3993" y="21484"/>
                </a:lnTo>
                <a:lnTo>
                  <a:pt x="0" y="16200"/>
                </a:lnTo>
                <a:lnTo>
                  <a:pt x="3993" y="10684"/>
                </a:lnTo>
                <a:lnTo>
                  <a:pt x="3993" y="13384"/>
                </a:lnTo>
                <a:arcTo wR="21600" hR="6750" stAng="3537300" swAng="-307131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1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4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6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1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3605"/>
                <a:lnTo>
                  <a:pt x="3176" y="21527"/>
                </a:lnTo>
                <a:lnTo>
                  <a:pt x="0" y="16200"/>
                </a:lnTo>
                <a:lnTo>
                  <a:pt x="3176" y="10727"/>
                </a:lnTo>
                <a:lnTo>
                  <a:pt x="3176" y="13427"/>
                </a:lnTo>
                <a:arcTo wR="21600" hR="6750" stAng="3873605" swAng="-340761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3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6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4198"/>
                <a:lnTo>
                  <a:pt x="4633" y="21443"/>
                </a:lnTo>
                <a:lnTo>
                  <a:pt x="0" y="16200"/>
                </a:lnTo>
                <a:lnTo>
                  <a:pt x="4633" y="10643"/>
                </a:lnTo>
                <a:lnTo>
                  <a:pt x="4633" y="13343"/>
                </a:lnTo>
                <a:arcTo wR="21600" hR="6750" stAng="3294198" swAng="-28282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8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2 Marcador de contenido" descr=""/>
          <p:cNvPicPr/>
          <p:nvPr/>
        </p:nvPicPr>
        <p:blipFill>
          <a:blip r:embed="rId1"/>
          <a:stretch/>
        </p:blipFill>
        <p:spPr>
          <a:xfrm>
            <a:off x="-165240" y="396720"/>
            <a:ext cx="9176040" cy="6126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63" name="3 Diagrama" descr=""/>
          <p:cNvPicPr/>
          <p:nvPr/>
        </p:nvPicPr>
        <p:blipFill>
          <a:blip r:embed="rId1"/>
          <a:stretch/>
        </p:blipFill>
        <p:spPr>
          <a:xfrm>
            <a:off x="755640" y="469800"/>
            <a:ext cx="784548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2 Marcador de contenido" descr=""/>
          <p:cNvPicPr/>
          <p:nvPr/>
        </p:nvPicPr>
        <p:blipFill>
          <a:blip r:embed="rId1"/>
          <a:stretch/>
        </p:blipFill>
        <p:spPr>
          <a:xfrm>
            <a:off x="96840" y="195120"/>
            <a:ext cx="8682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6. Propicia un ambiente escolar para un aprendizaje y un desarrollo sano e integral de los estudiant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7. Se auto determina y cuida de sí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8. Se expresa y se comun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9. Piensa crítica y con reflex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0. Aprende de forma autóno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1. Trabaja de forma colaborativ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2. Participa con responsabilidad soc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3. Organiza su formación continua en su trayectoria profesio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3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20T15:44:10Z</dcterms:modified>
  <cp:revision>34</cp:revision>
  <dc:subject/>
  <dc:title>¡BIENVENIDOS!</dc:title>
</cp:coreProperties>
</file>